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93B0-7342-4D48-9539-0BDC4F42D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2778-8487-4AFD-A19C-07EBEB9FD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A195-985D-4290-86CC-583FA4DDC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E5B9-8EE4-4477-9BF0-BA3C52BC4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CFA0-B424-4C45-8ADD-362C54227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4123-9834-4D0E-B09E-275D7CFF8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DC14-ABB5-4396-BDAE-CCC023FFA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6544-0B5E-4F8E-9888-79EADF391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0356-DE3B-4BDB-B287-A52E68039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088C-A66E-4AE0-84DB-9BEEF2C08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4EBA-E0A9-4C64-8C2F-2E47FF4D7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B6453-2738-454B-B655-607ADED77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F8C5D-B439-464C-8A72-C34010405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F4698-10F5-4A2E-A30D-08F0C72F6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16B20-6946-4320-A7C9-9EAA91103B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BFD56-5209-457B-BA9D-85B73FE8C5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7C999-00B9-43A9-B3F2-B3127B34A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A97EC-CA99-418C-A88F-B5A35450B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966B3-46DD-4DE8-B385-B2FCB70DC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086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C857-7F0E-4E20-9787-7202D4604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BF00F-0B45-44F1-B827-B2A52E88F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470A4-B0D6-4AE8-A6BC-DE525EC26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50E9E-4A45-4E94-8942-867073B32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228600"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7696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0ECB7B94-7007-4927-B432-97189893E9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380880" y="646200"/>
            <a:ext cx="609840" cy="503280"/>
          </a:xfrm>
          <a:prstGeom prst="rect">
            <a:avLst/>
          </a:prstGeom>
          <a:solidFill>
            <a:srgbClr val="ed6b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2.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C7ED1D0C-ED8A-4226-BF1F-4E89F682ED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9"/>
          <p:cNvSpPr/>
          <p:nvPr/>
        </p:nvSpPr>
        <p:spPr>
          <a:xfrm>
            <a:off x="4330800" y="4038480"/>
            <a:ext cx="4660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31f20"/>
                </a:solidFill>
                <a:latin typeface="Times New Roman"/>
              </a:rPr>
              <a:t>—</a:t>
            </a:r>
            <a:r>
              <a:rPr b="0" i="1" lang="en-US" sz="2100" spc="-1" strike="noStrike">
                <a:solidFill>
                  <a:srgbClr val="231f20"/>
                </a:solidFill>
                <a:latin typeface="Times New Roman"/>
              </a:rPr>
              <a:t>Eh bien, elle peut descendre </a:t>
            </a:r>
            <a:r>
              <a:rPr b="1" i="1" lang="en-US" sz="2100" spc="-1" strike="noStrike">
                <a:solidFill>
                  <a:srgbClr val="231f20"/>
                </a:solidFill>
                <a:latin typeface="Times New Roman"/>
              </a:rPr>
              <a:t>discrètement </a:t>
            </a:r>
            <a:r>
              <a:rPr b="0" i="1" lang="en-US" sz="2100" spc="-1" strike="noStrike">
                <a:solidFill>
                  <a:srgbClr val="231f20"/>
                </a:solidFill>
                <a:latin typeface="Times New Roman"/>
              </a:rPr>
              <a:t>à la station suiva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2" descr="DAC3_Grammar-5"/>
          <p:cNvPicPr/>
          <p:nvPr/>
        </p:nvPicPr>
        <p:blipFill>
          <a:blip r:embed="rId1"/>
          <a:stretch/>
        </p:blipFill>
        <p:spPr>
          <a:xfrm>
            <a:off x="609480" y="1981080"/>
            <a:ext cx="37483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8D811416-82EC-4413-BE78-BEEDF15E91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In the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passé composé,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place short or common adverbs before the past participle. Place longer or less common adverbs after the past partici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3048120"/>
          <a:ext cx="7772400" cy="26510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59696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Nous sommes </a:t>
                      </a: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déjà </a:t>
                      </a:r>
                      <a:r>
                        <a:rPr b="0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arrivés à </a:t>
                      </a:r>
                      <a:br>
                        <a:rPr sz="2100"/>
                      </a:br>
                      <a:r>
                        <a:rPr b="0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la gar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We already arrived at the train statio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Vous avez </a:t>
                      </a: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vraiment </a:t>
                      </a:r>
                      <a:r>
                        <a:rPr b="0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compris ses indications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Did you really understand his directions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408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Il a conduit </a:t>
                      </a: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prudemme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He drove prudently</a:t>
                      </a:r>
                      <a:r>
                        <a:rPr b="0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Tu t’es levée </a:t>
                      </a: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régulièrement </a:t>
                      </a: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à six heur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You got up regularly at six o’clock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099FDD9A-2E05-4C4B-AF22-113351FFAE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In negative sentences, the adverbs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peut-être, sans doute,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probablement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usually precede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p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38080" y="2894040"/>
          <a:ext cx="7391520" cy="1371600"/>
        </p:xfrm>
        <a:graphic>
          <a:graphicData uri="http://schemas.openxmlformats.org/drawingml/2006/table">
            <a:tbl>
              <a:tblPr/>
              <a:tblGrid>
                <a:gridCol w="3048120"/>
                <a:gridCol w="762120"/>
                <a:gridCol w="3581280"/>
              </a:tblGrid>
              <a:tr h="137412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Elle n’est pas </a:t>
                      </a: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souvent </a:t>
                      </a:r>
                      <a:br>
                        <a:rPr sz="2100"/>
                      </a:b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chez el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She is not often at hom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bu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Elle n’a </a:t>
                      </a: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peut-être </a:t>
                      </a: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pas lu ton e-mail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She probably has not read your e-mail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62B95DB7-8E49-4489-955B-2F6EA2A970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adverbs of time and place typically follow the past partici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2743200"/>
          <a:ext cx="8076960" cy="731880"/>
        </p:xfrm>
        <a:graphic>
          <a:graphicData uri="http://schemas.openxmlformats.org/drawingml/2006/table">
            <a:tbl>
              <a:tblPr/>
              <a:tblGrid>
                <a:gridCol w="3962160"/>
                <a:gridCol w="4114800"/>
              </a:tblGrid>
              <a:tr h="73404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Elle a commencé </a:t>
                      </a: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tôt </a:t>
                      </a: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ses devoir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She started her homework earl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Nous ne sommes pas descendus </a:t>
                      </a: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ici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We did not get off her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6312DC9E-0285-4933-9135-8A6309DEE1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ew expressions, an adjective functions as an adverb. Therefore, it is in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304920" y="2743200"/>
            <a:ext cx="8610480" cy="1828800"/>
          </a:xfrm>
          <a:prstGeom prst="roundRect">
            <a:avLst>
              <a:gd name="adj" fmla="val 8639"/>
            </a:avLst>
          </a:prstGeom>
          <a:noFill/>
          <a:ln w="28440">
            <a:solidFill>
              <a:srgbClr val="507b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2743200"/>
          <a:ext cx="8534520" cy="1828800"/>
        </p:xfrm>
        <a:graphic>
          <a:graphicData uri="http://schemas.openxmlformats.org/drawingml/2006/table">
            <a:tbl>
              <a:tblPr/>
              <a:tblGrid>
                <a:gridCol w="4888080"/>
                <a:gridCol w="3646440"/>
              </a:tblGrid>
              <a:tr h="1828800">
                <a:tc>
                  <a:txBody>
                    <a:bodyPr lIns="137160" rIns="137160" tIns="228600" bIns="228600" anchor="t">
                      <a:noAutofit/>
                    </a:bodyPr>
                    <a:p>
                      <a:pPr marL="114480"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coûter cher  </a:t>
                      </a: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to cost a lot</a:t>
                      </a:r>
                      <a:br>
                        <a:rPr sz="2100"/>
                      </a:b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arler bas/fort  </a:t>
                      </a: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to speak softly/loudl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>
                      <a:noFill/>
                    </a:lnL>
                    <a:lnR w="13680">
                      <a:solidFill>
                        <a:srgbClr val="507bb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37160" rIns="137160" tIns="228600" bIns="228600" anchor="t">
                      <a:noAutofit/>
                    </a:bodyPr>
                    <a:p>
                      <a:pPr marL="114480"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sentir bon/mauvais 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to smell good/ba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travailler dur  </a:t>
                      </a: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to work har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13680">
                      <a:solidFill>
                        <a:srgbClr val="507bb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4D1A855F-86BE-4B23-B990-77523BA2AF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559e"/>
                </a:solidFill>
                <a:latin typeface="Arial"/>
              </a:rPr>
              <a:t>Formation of ad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To form an adverb from an adjective whose masculine singular form ends in a consonant, add the ending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-ment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 to the adjective’s feminine singular form. If the masculine singular ends in a vowel, simply add the ending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-ment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 to tha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2"/>
          <p:cNvSpPr/>
          <p:nvPr/>
        </p:nvSpPr>
        <p:spPr>
          <a:xfrm>
            <a:off x="2133720" y="4191120"/>
            <a:ext cx="4876560" cy="1981080"/>
          </a:xfrm>
          <a:prstGeom prst="roundRect">
            <a:avLst>
              <a:gd name="adj" fmla="val 8639"/>
            </a:avLst>
          </a:prstGeom>
          <a:noFill/>
          <a:ln w="28440">
            <a:solidFill>
              <a:srgbClr val="507b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09680" y="4191120"/>
          <a:ext cx="4800600" cy="1981080"/>
        </p:xfrm>
        <a:graphic>
          <a:graphicData uri="http://schemas.openxmlformats.org/drawingml/2006/table">
            <a:tbl>
              <a:tblPr/>
              <a:tblGrid>
                <a:gridCol w="1447920"/>
                <a:gridCol w="3352680"/>
              </a:tblGrid>
              <a:tr h="1982160">
                <a:tc>
                  <a:txBody>
                    <a:bodyPr lIns="137160" rIns="137160" tIns="228600" bIns="2286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abso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do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fran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natur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>
                      <a:noFill/>
                    </a:lnL>
                    <a:lnR w="13680">
                      <a:solidFill>
                        <a:srgbClr val="507bb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37160" rIns="137160" tIns="228600" bIns="2286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absolu</a:t>
                      </a:r>
                      <a:r>
                        <a:rPr b="1" lang="en-US" sz="20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ment</a:t>
                      </a:r>
                      <a:r>
                        <a:rPr b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absolute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douce</a:t>
                      </a:r>
                      <a:r>
                        <a:rPr b="1" lang="en-US" sz="20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ment</a:t>
                      </a:r>
                      <a:r>
                        <a:rPr b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gen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franche</a:t>
                      </a:r>
                      <a:r>
                        <a:rPr b="1" lang="en-US" sz="20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ment </a:t>
                      </a:r>
                      <a:r>
                        <a:rPr b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frank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naturelle</a:t>
                      </a:r>
                      <a:r>
                        <a:rPr b="1" lang="en-US" sz="20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ment </a:t>
                      </a:r>
                      <a:r>
                        <a:rPr b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natur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oli</a:t>
                      </a:r>
                      <a:r>
                        <a:rPr b="1" lang="en-US" sz="20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ment</a:t>
                      </a:r>
                      <a:r>
                        <a:rPr b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olite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13680">
                      <a:solidFill>
                        <a:srgbClr val="507bb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6A2557E5-01D6-4BDD-B2F2-6F8E69558B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To form an adverb from an adjective whose masculine singular form ends in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-ant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-ent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, replace the ending </a:t>
            </a:r>
            <a:br>
              <a:rPr sz="2400"/>
            </a:b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with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-amment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-emment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4"/>
          <p:cNvSpPr/>
          <p:nvPr/>
        </p:nvSpPr>
        <p:spPr>
          <a:xfrm>
            <a:off x="1981080" y="3124080"/>
            <a:ext cx="5181840" cy="1752840"/>
          </a:xfrm>
          <a:prstGeom prst="roundRect">
            <a:avLst>
              <a:gd name="adj" fmla="val 8639"/>
            </a:avLst>
          </a:prstGeom>
          <a:noFill/>
          <a:ln w="28440">
            <a:solidFill>
              <a:srgbClr val="507b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981080" y="3133800"/>
          <a:ext cx="5181840" cy="1736640"/>
        </p:xfrm>
        <a:graphic>
          <a:graphicData uri="http://schemas.openxmlformats.org/drawingml/2006/table">
            <a:tbl>
              <a:tblPr/>
              <a:tblGrid>
                <a:gridCol w="1676520"/>
                <a:gridCol w="3505320"/>
              </a:tblGrid>
              <a:tr h="1737720">
                <a:tc>
                  <a:txBody>
                    <a:bodyPr lIns="137160" rIns="137160" tIns="228600" bIns="2286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bruya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consta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évid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ati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>
                      <a:noFill/>
                    </a:lnL>
                    <a:lnR w="13680">
                      <a:solidFill>
                        <a:srgbClr val="507bb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37160" rIns="137160" tIns="228600" bIns="2286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bruy</a:t>
                      </a:r>
                      <a:r>
                        <a:rPr b="1" lang="fr-FR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mment</a:t>
                      </a: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 </a:t>
                      </a:r>
                      <a:r>
                        <a:rPr b="0" i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noisil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const</a:t>
                      </a:r>
                      <a:r>
                        <a:rPr b="1" lang="fr-FR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mment</a:t>
                      </a: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 </a:t>
                      </a:r>
                      <a:r>
                        <a:rPr b="0" i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constantl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évid</a:t>
                      </a:r>
                      <a:r>
                        <a:rPr b="1" lang="fr-FR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mment</a:t>
                      </a: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 </a:t>
                      </a:r>
                      <a:r>
                        <a:rPr b="0" i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obviousl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ati</a:t>
                      </a:r>
                      <a:r>
                        <a:rPr b="1" lang="fr-FR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mment</a:t>
                      </a: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 </a:t>
                      </a:r>
                      <a:r>
                        <a:rPr b="0" i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atientl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13680">
                      <a:solidFill>
                        <a:srgbClr val="507bb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3B81A097-2E32-4A77-90FB-DC584A6996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An exception to this rule is the adjective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lent,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whose corresponding adverb is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lentement.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Remember that the endings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-amment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-emment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 are pronounced iden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1DFFC9ED-0EDE-498F-B7B8-52AD9C7CF7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A limited number of adverbs are formed by adding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-ément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to the masculine singular form of the adjective. If this form ends in a silent final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-e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, drop it before adding the suff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0"/>
          <p:cNvSpPr/>
          <p:nvPr/>
        </p:nvSpPr>
        <p:spPr>
          <a:xfrm>
            <a:off x="1905120" y="3114720"/>
            <a:ext cx="5410080" cy="1752480"/>
          </a:xfrm>
          <a:prstGeom prst="roundRect">
            <a:avLst>
              <a:gd name="adj" fmla="val 8639"/>
            </a:avLst>
          </a:prstGeom>
          <a:noFill/>
          <a:ln w="28440">
            <a:solidFill>
              <a:srgbClr val="507b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905120" y="3124080"/>
          <a:ext cx="5333760" cy="1737000"/>
        </p:xfrm>
        <a:graphic>
          <a:graphicData uri="http://schemas.openxmlformats.org/drawingml/2006/table">
            <a:tbl>
              <a:tblPr/>
              <a:tblGrid>
                <a:gridCol w="1676160"/>
                <a:gridCol w="3657600"/>
              </a:tblGrid>
              <a:tr h="1737720">
                <a:tc>
                  <a:txBody>
                    <a:bodyPr lIns="137160" rIns="137160" tIns="228600" bIns="2286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confu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énorm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réc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rofon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>
                      <a:noFill/>
                    </a:lnL>
                    <a:lnR w="13680">
                      <a:solidFill>
                        <a:srgbClr val="507bb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37160" rIns="137160" tIns="228600" bIns="2286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confus</a:t>
                      </a:r>
                      <a:r>
                        <a:rPr b="1" lang="fr-FR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ément</a:t>
                      </a: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 </a:t>
                      </a:r>
                      <a:r>
                        <a:rPr b="0" i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confusedl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énorm</a:t>
                      </a:r>
                      <a:r>
                        <a:rPr b="1" lang="fr-FR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ément</a:t>
                      </a: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 </a:t>
                      </a:r>
                      <a:r>
                        <a:rPr b="0" i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enormousl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récis</a:t>
                      </a:r>
                      <a:r>
                        <a:rPr b="1" lang="fr-FR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ément</a:t>
                      </a: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 </a:t>
                      </a:r>
                      <a:r>
                        <a:rPr b="0" i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recisel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rofond</a:t>
                      </a:r>
                      <a:r>
                        <a:rPr b="1" lang="fr-FR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ément</a:t>
                      </a: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 </a:t>
                      </a:r>
                      <a:r>
                        <a:rPr b="0" i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rofoundl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13680">
                      <a:solidFill>
                        <a:srgbClr val="507bb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99ACBCC4-E5A9-4159-A752-E2ED9F07B2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A few adverbs, like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bien, gentiment, mal,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mieux,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are entirely irregular. The irregular adverb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brièvement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231f20"/>
                </a:solidFill>
                <a:latin typeface="Arial"/>
              </a:rPr>
              <a:t>briefly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) is derived from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bref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231f20"/>
                </a:solidFill>
                <a:latin typeface="Arial"/>
              </a:rPr>
              <a:t>brève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0273D4AA-0B57-4893-9B13-3456782001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559e"/>
                </a:solidFill>
                <a:latin typeface="Arial"/>
              </a:rPr>
              <a:t>Categories of ad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31f20"/>
                </a:solidFill>
                <a:latin typeface="Arial"/>
              </a:rPr>
              <a:t>Most common adverbs can be grouped by categ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62120" y="2666880"/>
          <a:ext cx="7696080" cy="3475080"/>
        </p:xfrm>
        <a:graphic>
          <a:graphicData uri="http://schemas.openxmlformats.org/drawingml/2006/table">
            <a:tbl>
              <a:tblPr/>
              <a:tblGrid>
                <a:gridCol w="1333440"/>
                <a:gridCol w="6362640"/>
              </a:tblGrid>
              <a:tr h="961560">
                <a:tc>
                  <a:txBody>
                    <a:bodyPr lIns="0" rIns="0" tIns="46800" bIns="9144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ti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9144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alors, aujourd’hui, bientôt, d’abord, de temps en temps, déjà, demain, encore, enfin, ensuite, hier, jamais, maintenant, parfois, quelquefois, rarement, souvent, tard, tôt, touj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0" rIns="0" tIns="46800" bIns="9144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ma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9144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ainsi (</a:t>
                      </a:r>
                      <a:r>
                        <a:rPr b="0" i="1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thus</a:t>
                      </a:r>
                      <a:r>
                        <a:rPr b="0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), bien, donc, en général, lentement, mal, soudain, surtout, très, v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0" rIns="0" tIns="46800" bIns="9144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9144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heureusement, malheureusement, peut-être, probablement, sans do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0" rIns="0" tIns="46800" bIns="9144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l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9144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dedans, dehors, ici, là, là-bas, nulle part (</a:t>
                      </a:r>
                      <a:r>
                        <a:rPr b="0" i="1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nowhere</a:t>
                      </a:r>
                      <a:r>
                        <a:rPr b="0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), part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(</a:t>
                      </a:r>
                      <a:r>
                        <a:rPr b="0" i="1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everywhere</a:t>
                      </a:r>
                      <a:r>
                        <a:rPr b="0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), quelque part (</a:t>
                      </a:r>
                      <a:r>
                        <a:rPr b="0" i="1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somewhere</a:t>
                      </a:r>
                      <a:r>
                        <a:rPr b="0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0" rIns="0" tIns="46800" bIns="9144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9144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assez, autant, beaucoup, peu, t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F0DD807D-5CE2-44AE-A752-2561B20439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559e"/>
                </a:solidFill>
                <a:latin typeface="Arial"/>
              </a:rPr>
              <a:t>Position of ad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In the case of a simple tense (present indicative,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imparfait,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future, etc.), an adverb immediately follows the verb it modif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90560" y="3505320"/>
          <a:ext cx="7896240" cy="1050840"/>
        </p:xfrm>
        <a:graphic>
          <a:graphicData uri="http://schemas.openxmlformats.org/drawingml/2006/table">
            <a:tbl>
              <a:tblPr/>
              <a:tblGrid>
                <a:gridCol w="4172040"/>
                <a:gridCol w="3724200"/>
              </a:tblGrid>
              <a:tr h="105408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Gérard s’arrête </a:t>
                      </a: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toujours </a:t>
                      </a:r>
                      <a:r>
                        <a:rPr b="0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au </a:t>
                      </a:r>
                      <a:br>
                        <a:rPr sz="2100"/>
                      </a:br>
                      <a:r>
                        <a:rPr b="0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centre-vil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Gérard always stops downtow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Il attend </a:t>
                      </a: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patiemment </a:t>
                      </a: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au feu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He waits patiently at the traffic ligh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83E2F049-2734-4C2B-AFA2-60946B9E10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23960" y="1571760"/>
          <a:ext cx="7696080" cy="223812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2516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181296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English, adverbs sometimes immediately follow the subject. In French, this is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as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sister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ly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kes me u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 sœur me réveille constammen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© and ® 2011 Vista Higher Learning, Inc.</dc:creator>
  <dc:description/>
  <dc:language>en-US</dc:language>
  <cp:lastModifiedBy>Ursuline Academy</cp:lastModifiedBy>
  <dcterms:modified xsi:type="dcterms:W3CDTF">2014-09-29T21:53:02Z</dcterms:modified>
  <cp:revision>152</cp:revision>
  <dc:subject>D'accord! 3 • Leçon 2: Habiter en ville</dc:subject>
  <dc:title>2.3 Adverbs</dc:title>
</cp:coreProperties>
</file>